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05668"/>
        <c:axId val="42668236"/>
      </c:barChart>
      <c:catAx>
        <c:axId val="74605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68236"/>
        <c:crosses val="autoZero"/>
        <c:auto val="1"/>
        <c:lblAlgn val="ctr"/>
        <c:lblOffset val="100"/>
        <c:noMultiLvlLbl val="0"/>
      </c:catAx>
      <c:valAx>
        <c:axId val="42668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05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28E-9ACC-4AB8-A1FF-933F031A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0D4-A0DF-47AF-98AA-EFB9D035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019-FBA1-42B7-8280-3548FF24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3C0-2ACF-44B7-99B8-83C8CD8B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B3D-1AF7-4074-A9E6-8AD9BA65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CAA-3EF4-40BA-9141-FE5D3C05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734-E0EC-4E32-9E6C-0893D4DB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FE5-6742-4D2C-83A5-14828C4A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8FB-9D55-4BEC-8F5D-CF3B772E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BF9-9623-490E-87B2-ACE4D429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B2D-82E3-4A2A-B95D-00228365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57B-51D9-470F-A241-70B5480E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DCCAA-CC8E-4263-A3BD-8BD78BC130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