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128135"/>
        <c:axId val="40443771"/>
      </c:barChart>
      <c:catAx>
        <c:axId val="681281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443771"/>
        <c:crosses val="autoZero"/>
        <c:auto val="1"/>
        <c:lblAlgn val="ctr"/>
        <c:lblOffset val="100"/>
        <c:noMultiLvlLbl val="0"/>
      </c:catAx>
      <c:valAx>
        <c:axId val="404437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1281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A89E-8FDC-456D-AB9E-F0D68C1B8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D527-9D63-47D9-A61F-5658ECF0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D881-FC7E-40F1-B79E-F0958F1AD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719E-2DB9-442D-AA88-20444C529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9C21-4E9C-48E8-91D9-F905ED29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B676-B822-488C-9CD7-8F211352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9F35-BD67-4F3A-8602-FDF0B788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D217-6885-4762-81DA-E8CC0D39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B3D4-E440-43F0-884E-94693CFA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3D91-F248-404A-AB0D-FFC6BD8B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8F9A-A086-462D-918D-7266131D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8EC8-806F-44CD-99EF-F9618E4C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34F3C-2834-4C56-96A0-44675B16DE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