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85255"/>
        <c:axId val="98394987"/>
      </c:barChart>
      <c:catAx>
        <c:axId val="551852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94987"/>
        <c:crosses val="autoZero"/>
        <c:auto val="1"/>
        <c:lblAlgn val="ctr"/>
        <c:lblOffset val="100"/>
        <c:noMultiLvlLbl val="0"/>
      </c:catAx>
      <c:valAx>
        <c:axId val="98394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852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904-DD99-4751-816B-BBDC7DE9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1327-E3AD-4D58-9E79-762AFCB7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89D0-D3EC-4B5A-87E0-A5544568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1A60-6675-4EE3-9D19-2B3E5E71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058E-7277-4158-BD63-5ACB9706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B65B-A720-4238-AA18-0CFA5449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A152-F711-4D89-A268-E66929C3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69C8-79CD-46BC-872B-46FE5B9B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69F7-C6C7-4855-9935-4AC8D076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157C-8E7D-4798-8602-94178731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9DA0-C5F7-489D-AD1D-30F260DE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2BCD-44A7-42E9-A20E-82F308DA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B4930-13E1-465D-B58B-F836E8AEBC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