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37264"/>
        <c:axId val="81633321"/>
      </c:barChart>
      <c:catAx>
        <c:axId val="82137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33321"/>
        <c:crosses val="autoZero"/>
        <c:auto val="1"/>
        <c:lblAlgn val="ctr"/>
        <c:lblOffset val="100"/>
        <c:noMultiLvlLbl val="0"/>
      </c:catAx>
      <c:valAx>
        <c:axId val="81633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37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986-621D-4836-AC06-EF12A01E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8AB-99F7-47B5-82B9-15A0EE00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7A0-E793-4A80-BD26-641D978E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224-2360-4033-AEA0-375B15B9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38D-A368-4E63-B2EA-BDB293E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466-C7A2-48E9-9AF3-0FF85BBA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F66-FDC0-40B5-A521-2C7036F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835-ADA5-4504-91F2-4E842C27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AAB-594D-48D5-833F-B613C85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2C1-A96D-4814-8E1D-8783BCE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4D5-57F3-41EF-A006-4D568457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077-8F9A-4572-8E6F-BA19E05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42219-7A98-441B-8761-1CB21049F8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