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8822"/>
        <c:axId val="60378601"/>
      </c:barChart>
      <c:catAx>
        <c:axId val="2248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78601"/>
        <c:crosses val="autoZero"/>
        <c:auto val="1"/>
        <c:lblAlgn val="ctr"/>
        <c:lblOffset val="100"/>
        <c:noMultiLvlLbl val="0"/>
      </c:catAx>
      <c:valAx>
        <c:axId val="60378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8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F78-18AD-493B-B610-2E677B21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FA9-891B-486A-AFDC-A2030133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20B-FEE7-4474-A7C4-E4621005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3B4-1224-4297-BA4C-D4D0F8FC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086-8AEE-4440-9AE3-3A36B909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998-636F-49CC-818B-9D2C2825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B82-8634-4EB3-A343-552524EF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010-15B6-4C0B-B116-74822408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41B-E2EC-42DB-A250-7BC7DBB3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C7C-AFF9-400B-976A-1FAB012F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68F-AAE3-4A04-97DE-D5C423EF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B08-D9FA-42A1-BE7E-7D6B09BD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09DA3-5800-4072-BE8B-B534D44F9D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