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0834"/>
        <c:axId val="14781804"/>
      </c:barChart>
      <c:catAx>
        <c:axId val="7800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81804"/>
        <c:crosses val="autoZero"/>
        <c:auto val="1"/>
        <c:lblAlgn val="ctr"/>
        <c:lblOffset val="100"/>
        <c:noMultiLvlLbl val="0"/>
      </c:catAx>
      <c:valAx>
        <c:axId val="14781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0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70F-790E-4C87-A051-0B1A7DAA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D6A-180F-4C57-B6BA-6227CCB9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F5B-06ED-41F3-A65A-47E55154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C02-8342-461A-A46D-138334B5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957-9821-46E8-B779-49BB3B1E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F3E-996D-4C97-B2C6-22FBE997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A61-057D-4E54-B226-60A911ED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7FD-DBB7-4EB3-B8CB-78FA6E42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38D-D25A-4610-841A-ED211484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02C-C89C-4131-8C16-300B637B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A7D-C75F-4E7D-84AA-7D609AC4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A50-79F0-41A6-934E-234C5576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967D1-0C35-4601-85E4-CA0EED0922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