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165104"/>
        <c:axId val="87237476"/>
      </c:barChart>
      <c:catAx>
        <c:axId val="341651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237476"/>
        <c:crosses val="autoZero"/>
        <c:auto val="1"/>
        <c:lblAlgn val="ctr"/>
        <c:lblOffset val="100"/>
        <c:noMultiLvlLbl val="0"/>
      </c:catAx>
      <c:valAx>
        <c:axId val="872374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1651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9ECA-EB86-4382-9AFA-AF5A7948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F40C-DB12-4DC5-93C8-0CE9C1615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D3E4D-85D9-4519-85E2-5D0086B4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9D5-C1E5-4A8C-A0F9-E693F2288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85D-B6CB-4C75-867C-2C1DD3D7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3504-862C-4C38-88D6-122360BF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4CDA-222E-4149-A10A-DB6AB974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CF557-2C3E-4F32-A2E7-EBB42989A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6023-8B23-48E0-8847-ABCF5564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A892-599A-4D08-8489-B0BBE6FB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37AC-022E-4FD7-A867-8E18D505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96E1-1DA4-4481-8C4A-F75236BB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B547CF-0C1A-4F44-A50E-A610405527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