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532641"/>
        <c:axId val="32658647"/>
      </c:barChart>
      <c:catAx>
        <c:axId val="215326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58647"/>
        <c:crosses val="autoZero"/>
        <c:auto val="1"/>
        <c:lblAlgn val="ctr"/>
        <c:lblOffset val="100"/>
        <c:noMultiLvlLbl val="0"/>
      </c:catAx>
      <c:valAx>
        <c:axId val="326586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326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FE90-245B-4CAA-8C17-DC2D38DF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568D-2D60-4D88-8319-0FF1E2C3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425A-D9E6-454C-9694-28826FFB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DED2-CAC5-42E4-9A25-14CEB5B3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51A6-3A49-42E5-9A76-6ECBD6E0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4CE6-DE70-4CB6-B198-016B5461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3C4C-2F37-49A4-B6AE-234F69C8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E44D-57D3-482B-89DC-D904A8A1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E9EF-9A81-4BE9-9C01-87C3BE21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5299-E15B-4826-9808-09CB176F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949F-C135-4D17-A699-EA7C9312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1E6C-49C0-487A-8D6F-A08DA1BD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462E0-C101-45D0-9048-5CCA45549E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