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7889"/>
        <c:axId val="37146518"/>
      </c:barChart>
      <c:catAx>
        <c:axId val="2047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6518"/>
        <c:crosses val="autoZero"/>
        <c:auto val="1"/>
        <c:lblAlgn val="ctr"/>
        <c:lblOffset val="100"/>
        <c:noMultiLvlLbl val="0"/>
      </c:catAx>
      <c:valAx>
        <c:axId val="37146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7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2FB-0D64-4363-BB5A-EDCF4BCD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DA7-FD1D-4D08-A2A8-2C71BD82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B04-87CE-4752-9A41-CC7F799C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95B-F493-40F6-B39B-322F04F6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FC0-BE8E-41AC-8A73-F1A35DBF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52F-7EE3-4E03-B2AB-E4A6D2C7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DCF-BF3A-4A6F-97D5-2C5F9FBE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919-351D-4944-91CA-56E53B54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572-A751-4B36-837F-86BE7A33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433-494C-4063-B0A5-7E6BDC08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BCB-305E-4E3A-AB84-A6B228B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2EB-5D81-4987-AEBE-36938BE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9E736-760B-47C7-8D1B-7768C5D593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