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76216"/>
        <c:axId val="83931617"/>
      </c:barChart>
      <c:catAx>
        <c:axId val="69176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31617"/>
        <c:crosses val="autoZero"/>
        <c:auto val="1"/>
        <c:lblAlgn val="ctr"/>
        <c:lblOffset val="100"/>
        <c:noMultiLvlLbl val="0"/>
      </c:catAx>
      <c:valAx>
        <c:axId val="83931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76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05A-94C0-49EC-904F-E834676A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901-AA43-406D-917E-F752F0FF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FAF-671C-4A73-8923-023B3413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1CE-FB70-4138-85A5-9C5332AC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1F6-B43B-43BC-A07D-5BF70134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528-B04C-498D-A8F0-C01E6972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104-09E3-4296-B6C5-7A72CF80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D70-3167-4F8E-BDA2-A24CCCD1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663-95A4-4943-8CF4-DCE2FBE2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829-524E-403C-AB7A-D131E34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728-253E-4BD3-8981-878B5036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4F4-308F-4526-9428-A8792C6F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0DEC-DA35-40DA-92CD-0860CE55A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