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61440"/>
        <c:axId val="39497915"/>
      </c:barChart>
      <c:catAx>
        <c:axId val="4546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97915"/>
        <c:crosses val="autoZero"/>
        <c:auto val="1"/>
        <c:lblAlgn val="ctr"/>
        <c:lblOffset val="100"/>
        <c:noMultiLvlLbl val="0"/>
      </c:catAx>
      <c:valAx>
        <c:axId val="3949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971-4D0C-4DF4-916C-1D607BD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B76-550A-4906-80D3-20695D42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1C2-81B0-481B-938A-6EE65E3A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B75-628B-4C00-A67C-7F40C968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D0E-C7FC-468E-8322-E0E13D9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FFB-0F91-4150-9BE4-759A948D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9A4-3623-40C0-9E38-EAA765C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21A-8159-4EF0-95EA-05595D0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5E2-1B7F-4208-9BF7-7D40CA09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1A9-0484-4556-8A94-AC4FF41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D13-9034-4C19-89B2-B6C25FA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E09-6805-44C7-B6CE-323463B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79C48-B790-41A0-8250-837923D14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