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98411"/>
        <c:axId val="9834207"/>
      </c:barChart>
      <c:catAx>
        <c:axId val="370984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4207"/>
        <c:crosses val="autoZero"/>
        <c:auto val="1"/>
        <c:lblAlgn val="ctr"/>
        <c:lblOffset val="100"/>
        <c:noMultiLvlLbl val="0"/>
      </c:catAx>
      <c:valAx>
        <c:axId val="98342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984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7AFF-EF0D-42D0-A930-051B46D6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F69-F50D-4701-83D8-10118167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6123-8858-482A-99CA-04964D561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11C8-8FA9-4753-8AC0-AD1EAF307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2A26-002B-4D8C-8D4F-36A42727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9E4A-6B0A-41C6-A30D-13A6ED9A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9F05-E7E8-4558-AABF-73E85139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EDA1-5BFB-432E-96E0-F5B18F30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78A0-7113-4A31-8830-2EB457AE2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9336-9DE1-431D-A288-702A706F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9288-8DCE-4B83-955B-F8D78325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5835-78D9-497E-8A2D-D4CD5D29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3C950-A473-41D3-B839-325894292C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