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252350"/>
        <c:axId val="94430621"/>
      </c:barChart>
      <c:catAx>
        <c:axId val="322523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30621"/>
        <c:crosses val="autoZero"/>
        <c:auto val="1"/>
        <c:lblAlgn val="ctr"/>
        <c:lblOffset val="100"/>
        <c:noMultiLvlLbl val="0"/>
      </c:catAx>
      <c:valAx>
        <c:axId val="944306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523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C575-F0F1-4E8F-8486-62EFA608E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B0D5-FC85-4449-97A9-9949EDA0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4303-B230-49E5-A82F-70BB53EFE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F38D-C4E4-494E-8BD6-03A4B9C3F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A8A0-5432-4DE4-B665-FAAD53E8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D5BB-501B-4688-9F13-3749D023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944E-85BA-4581-846A-00180E91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7E26-E9A8-4D5B-ABD2-771584A0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1099-9C36-4E55-ABF1-8215EDDF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6C29-AD43-40AB-BADB-00E994F5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55A4-730A-4E50-8CCF-B7583A79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DA8E-38FC-4FBF-A0DA-234B781D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F7FF7-C46A-425F-B2DB-D9141E3530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