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7606"/>
        <c:axId val="34861422"/>
      </c:barChart>
      <c:catAx>
        <c:axId val="9357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61422"/>
        <c:crosses val="autoZero"/>
        <c:auto val="1"/>
        <c:lblAlgn val="ctr"/>
        <c:lblOffset val="100"/>
        <c:noMultiLvlLbl val="0"/>
      </c:catAx>
      <c:valAx>
        <c:axId val="34861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7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F5C-4654-497D-9142-CF28A1C0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F40F-AD7C-4BFB-99EC-ECC50FE8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B6BD-0832-4CE1-869B-4BE7EDB5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C02-B605-41CC-9AF1-D026DD6E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59D-1E59-45F4-8298-208614BD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9B6-4FB6-47A5-B8C9-A929DCB1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03C-E9B1-45A9-8129-12D2742C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16C-D4AC-41B6-A4C6-89A2765C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8C8-D172-43B6-A8BD-8E61DC78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055-48A3-4C5D-831D-1E530FE7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195E-7E0E-44CA-88E1-92401EA2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3B8-2BCB-4774-9168-5A48D63B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33971-AA39-4F09-8377-299E50D50C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