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018206"/>
        <c:axId val="63588588"/>
      </c:barChart>
      <c:catAx>
        <c:axId val="48018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588588"/>
        <c:crosses val="autoZero"/>
        <c:auto val="1"/>
        <c:lblAlgn val="ctr"/>
        <c:lblOffset val="100"/>
        <c:noMultiLvlLbl val="0"/>
      </c:catAx>
      <c:valAx>
        <c:axId val="63588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18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4414-C993-4625-AAEA-40F03EEF5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C572-1DBF-45BB-AF05-F6CE0FD6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454E-1DAF-49BE-BE80-8AD4D910C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ABE-4962-42DA-B86B-F0E7D566F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A674-B8C0-40C4-87C1-5E85D67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966-9D88-4D5C-8A52-09735CB91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9D9-18B3-4AA0-9B03-50D8391D3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1207-1D5D-4632-B1EB-3D686A30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413-7A7F-4A71-BEFF-91388F7C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7C8-8BB8-4FD7-B50D-C4EF0DE4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262C-0DE2-4ED4-B7B2-5F29C5B5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D238-538B-41BC-9D4E-99C3E977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2F94C-3DD5-404D-A002-AB4EBE6FEF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