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04180"/>
        <c:axId val="68658391"/>
      </c:barChart>
      <c:catAx>
        <c:axId val="37204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8391"/>
        <c:crosses val="autoZero"/>
        <c:auto val="1"/>
        <c:lblAlgn val="ctr"/>
        <c:lblOffset val="100"/>
        <c:noMultiLvlLbl val="0"/>
      </c:catAx>
      <c:valAx>
        <c:axId val="68658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04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49D-5BAC-4C77-92FC-F67EAC0A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23C-228B-48E1-88D0-37C6A6D8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1E9-E39B-47EE-8C9A-870DB047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A32-7E90-4353-814E-B5AEDDD7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6D5-60C6-4CEA-B5E5-358F8F5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78F-7AE0-424F-90E5-DD152EB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A13-68F1-4AB0-B538-6BE8E27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B7D-3B90-4895-B475-E914A2B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38C-FEE4-4202-A660-8700B9D8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CB9-FA03-46EF-AE4C-FD8F7BE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3C6-95CD-4C25-9191-72524B4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70A-BB41-4240-B00A-3AAA806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E7994-DB85-45B8-BBEC-A1D12E14F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