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52032"/>
        <c:axId val="727506"/>
      </c:barChart>
      <c:catAx>
        <c:axId val="43552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506"/>
        <c:crosses val="autoZero"/>
        <c:auto val="1"/>
        <c:lblAlgn val="ctr"/>
        <c:lblOffset val="100"/>
        <c:noMultiLvlLbl val="0"/>
      </c:catAx>
      <c:valAx>
        <c:axId val="727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52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F80-9BB4-45DF-A214-15AFA652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DAA-3870-461B-AEE7-242A31AE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4B1-C8E1-4FFC-8C59-FCCBD43A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FCF-727B-4EA2-9A61-3B1CFF70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11A-5EF3-4D88-890C-2B1303F8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A26-0742-49AC-97C3-7CB5536D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8FC-89F1-413D-ADDC-5723C26D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A46-7D87-48AA-92C3-6B51FA1C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024-AC03-45D3-978D-06B73C8B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42F-00ED-450C-A45D-7CF137E4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B51-FE98-40DE-9F7C-7F2DC67D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BA2-C2DC-4A5D-AE12-6B1FAEC6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B64D9-9A27-42D7-BB2D-7939F5F2CF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