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7150"/>
        <c:axId val="53291846"/>
      </c:barChart>
      <c:catAx>
        <c:axId val="7517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91846"/>
        <c:crosses val="autoZero"/>
        <c:auto val="1"/>
        <c:lblAlgn val="ctr"/>
        <c:lblOffset val="100"/>
        <c:noMultiLvlLbl val="0"/>
      </c:catAx>
      <c:valAx>
        <c:axId val="53291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7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EF6-C726-4819-8A9D-2F08B5FC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933-4541-4381-A344-46466B1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AE9-7F14-4B9D-9C26-38FC8ACB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7E0-FEF5-4D0E-A93C-98A91BB4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ADB-C8BF-4F2B-BDAE-B885393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41A-2A8E-4D5D-A541-99B5D4BD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EF8-C951-41C4-AAFF-C3D5AA1C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FB9-9BE9-458D-B851-D82A3015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297-33B6-4BB6-91CD-1D97D188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8C3-C833-4CF4-90BA-436CE0E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521-B50A-4184-82E7-72719AC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B80-1180-445E-8089-AFB2F50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B3CCB-F29B-4C16-B77E-02C771B371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