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29735"/>
        <c:axId val="82198843"/>
      </c:barChart>
      <c:catAx>
        <c:axId val="35829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98843"/>
        <c:crosses val="autoZero"/>
        <c:auto val="1"/>
        <c:lblAlgn val="ctr"/>
        <c:lblOffset val="100"/>
        <c:noMultiLvlLbl val="0"/>
      </c:catAx>
      <c:valAx>
        <c:axId val="82198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29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EC2-301D-4DFB-9A85-12E68A2F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4AA-49A5-4B5A-93FA-78A71BB6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3DA-36CB-4E2C-B386-CF31A0F9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E09-6536-4FE8-BAF3-AB512849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FCA-B8E7-4EB4-882B-98BDCADF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D94-15BF-4F18-AD37-28A5C108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7DB-EEF7-4BE8-ABAC-A26D30CA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3E5-D4C8-4F81-9318-7C73944E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073-D521-4A12-8F32-DCD69393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81D-6C96-46B3-8EDD-5C6A1572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A30-71C1-40C7-8107-177A8E5E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91F-C969-40C4-98CA-07C1731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15694-E6FB-40F0-B67B-335421808C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