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38315"/>
        <c:axId val="81218019"/>
      </c:barChart>
      <c:catAx>
        <c:axId val="9338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18019"/>
        <c:crosses val="autoZero"/>
        <c:auto val="1"/>
        <c:lblAlgn val="ctr"/>
        <c:lblOffset val="100"/>
        <c:noMultiLvlLbl val="0"/>
      </c:catAx>
      <c:valAx>
        <c:axId val="81218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8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0EA-A875-4766-9798-C6B67B04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289B-867C-4F7E-BFD8-02BF15B0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6AD-DE7C-46ED-8025-4715A617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A983-C341-44DE-9674-24931C84B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F513-4CCE-4F10-80AD-9B441A10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C6F-2DB3-48D2-A2B0-070A95F1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97E-851D-489A-B5F0-9D2CFACC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512-9A16-4E6E-8ACA-10024B9A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1151-F9FC-45A4-B6B1-F02EEAF4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67F0-6F7B-40B5-9B5C-0FE3707A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389-C124-48A2-98E7-30480DB8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5A3A-47E7-4A5D-BFAE-9EF065F7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61C21-D7BD-4A12-8E50-595A3B9E34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