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550360"/>
        <c:axId val="18943809"/>
      </c:barChart>
      <c:catAx>
        <c:axId val="975503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43809"/>
        <c:crosses val="autoZero"/>
        <c:auto val="1"/>
        <c:lblAlgn val="ctr"/>
        <c:lblOffset val="100"/>
        <c:noMultiLvlLbl val="0"/>
      </c:catAx>
      <c:valAx>
        <c:axId val="18943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503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BE2-CB5F-4CD0-B5F5-24E5B192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1AB3-06D2-47BF-B07B-7562BFD6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A7D-13EF-4F8D-A949-3E60F8BB0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DFB-CF20-4E2D-91A8-003CFAFCD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84C1-CEE4-47FE-9DDD-F287FFF2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6A7-D053-412D-B417-1A4C8937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52AA-3E81-42DB-8F16-BDAC360A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0B2-E830-4B8C-8010-B8049D813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8A7-0ABD-4443-89A9-1B5AB200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AC13-E058-4D6E-A80D-E1094C3E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289E-2053-41B2-81FD-C7E19E6E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BE1-F7B8-4A51-8F3A-967665AD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71A837-45AD-4CCE-8D69-CDC7C2C7C1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