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40562"/>
        <c:axId val="5037609"/>
      </c:barChart>
      <c:catAx>
        <c:axId val="89640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7609"/>
        <c:crosses val="autoZero"/>
        <c:auto val="1"/>
        <c:lblAlgn val="ctr"/>
        <c:lblOffset val="100"/>
        <c:noMultiLvlLbl val="0"/>
      </c:catAx>
      <c:valAx>
        <c:axId val="5037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40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D34-F4E1-4ED7-B8C9-FB9C26AA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471-A57F-4D7D-B30E-442761F0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05A-5A51-4181-9280-127EF7B4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FA6-0B95-4717-8B9A-03A7AA5F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55A-6F1B-4096-843E-F413528B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CAC-3E6F-4219-80C9-94B191C5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301-0D5B-4F7A-BA85-E066D332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B2B-6848-490C-A46E-0C61AEE1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427F-912F-40B3-9DBA-6009EEB0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324-01F3-4C26-9EFC-1943809F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2B1-EA78-475D-96B4-D07BECAC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D2A-5644-4B92-89E8-E4519F0E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7A29D-C4FD-42A9-9D5C-17E56CDD5C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